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22C-095F-4117-ACA8-699606C4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512-D599-4F80-9C78-4DDF4632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677-A26A-4F24-88A0-C8DFAFFB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5A4-F20B-46BA-9CE6-7426CBA5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CBCA-10F4-49ED-BF86-B800FB7F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4E26-E28F-47C0-A8A9-383E8D6F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A93B-B90E-4841-946C-9286E155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B514-1926-4DE3-A12A-7FE3780E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5344-C5EF-4C2A-8B7E-4D749DBE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9C2D-2212-442F-97C0-6F7AF9C2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63E7-5486-47CB-A2B2-4061FE1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4E4-7D8A-4711-A98D-6F411DDC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E0DE-35DB-4179-9D07-FA05DC53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399C-604C-414C-A619-92DCE2D2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1362-AF22-49E1-B870-561E0B95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6AF5-46FD-4847-9C39-105A86C8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57CA-8F55-44BE-A175-AD5195F7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CAF-62C3-4BE4-80E9-F15125DF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87B-55DB-4F76-92D4-96B52397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EAA-60B3-4675-9AE8-E62F77EE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E8E-370F-4C9A-9E85-760AAD15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3B4-1A93-482E-9997-7786F7D1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BC3-96E1-4C60-A375-DECCB704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148-4874-4E82-B386-64E0DE7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DBD7-CADA-46EF-9B75-6BA742DC3E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A461-A6DD-4920-B18D-906A362639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Gap</a:t>
            </a:r>
            <a:r>
              <a:rPr b="0" i="1" lang="en-US" sz="5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0" i="1" lang="en-US" sz="60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Πληροφοριακά Συστήματα Διοίκηση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As Is   . . . To Be</a:t>
            </a:r>
            <a:br>
              <a:rPr sz="4000"/>
            </a:br>
            <a:r>
              <a:rPr b="0" i="1" lang="el-GR" sz="4000" spc="-1" strike="noStrike">
                <a:solidFill>
                  <a:srgbClr val="ffffcc"/>
                </a:solidFill>
                <a:latin typeface="Tahoma"/>
              </a:rPr>
              <a:t>(Εξέλιξη του Συστήματος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ΙΙΙ)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Symbol"/>
                <a:ea typeface="Symbol"/>
              </a:rPr>
              <a:t>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Κατανόηση των σχέσεων και των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λληλεπιδράσεων μεταξύ των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διαδικασιώ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Symbol"/>
                <a:ea typeface="Symbol"/>
              </a:rPr>
              <a:t>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Προσδιορισμός του τρόπου με τον οποίο θα </a:t>
            </a:r>
            <a:r>
              <a:rPr b="1" i="1" lang="el-GR" sz="2800" spc="-1" strike="noStrike">
                <a:solidFill>
                  <a:srgbClr val="ffffff"/>
                </a:solidFill>
                <a:latin typeface="Tahoma"/>
              </a:rPr>
              <a:t>γεφυρωθεί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ο χάσμα (μεταβολών των διαδικασιών, των αλληλεπιδράσεων αυτών κλπ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Symbol"/>
                <a:ea typeface="Symbol"/>
              </a:rPr>
              <a:t>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Εντοπισμός των απαραίτητων μεταβολών στα χαρακτηριστικά της κουλτούρας της επιχείρηση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OT Analy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OT Analysi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ίναι μία ακόμη μεθοδολογία ανάλυσης χασμάτων σε διαδικασίες της επιχείρηση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ντοπίζει τρόπους γι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να εκμεταλλευτεί η επιχείρηση τα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Πλεονεκτήματα και τις Ευκαιρίες της κα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-   να ελαχιστοποιήσει τους Κινδύνους και    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τις Αδυναμίες τη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cc"/>
                </a:solidFill>
                <a:latin typeface="Tahoma"/>
              </a:rPr>
              <a:t>Πλεονέκτημα της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Gap Analysi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p Analysis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είναι μία από τις καλύτερες μεθόδους διότ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1.Συμβάλει στη βελτίωση των διαδικασιώ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2. Αναγνωρίζει ποιες είναι οι διαδικασίες που πρέπει να βελτιωθού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cc"/>
                </a:solidFill>
                <a:latin typeface="Tahoma"/>
              </a:rPr>
              <a:t>Μοντέλο Εφαρμογής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ap Analysi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ιαδικασία : Παροχή Υπηρεσιώ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p1, Gap2, Gap3, Gap4, Gap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Τασσινού Γεωργί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ΑΜ: 20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Σας Ευχαριστ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cc"/>
                </a:solidFill>
                <a:latin typeface="Tahoma"/>
              </a:rPr>
              <a:t>Ως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Gap Analysi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l-GR" sz="4000" spc="-1" strike="noStrike">
                <a:solidFill>
                  <a:srgbClr val="ffffcc"/>
                </a:solidFill>
                <a:latin typeface="Tahoma"/>
              </a:rPr>
              <a:t>ορίζεται μία μεθοδολογία για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τη</a:t>
            </a: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 Βελτίωση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των</a:t>
            </a: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 Επιχειρησιακών Διαδικασιών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Improvement Process, BP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την</a:t>
            </a: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 Προμήθεια Τεχνολογία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τον</a:t>
            </a: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 Σχεδιασμό Στρατηγικών Προγραμμάτω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As Is   . . . To B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Με την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ap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αναγνωρίζονται όλες οι </a:t>
            </a: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αναγκαίες κινήσεις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προκειμένου η επιχείρηση να </a:t>
            </a: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αναπτυχθεί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και να </a:t>
            </a: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μεταβεί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από το επίπεδο που βρίσκεται σήμερα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s Is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σε ένα άλλο καλύτερο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o Be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Ga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Χάσματα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ps)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μπορεί να εντοπιστούν σε οποιαδήποτε διαδικασία της λειτουργίας μιας επιχείρηση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648320" y="1600200"/>
          <a:ext cx="4038480" cy="49816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Η αντίληψη του μάνατζερ για τις προσδοκίες του καταναλωτ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a5c6c"/>
                          </a:solidFill>
                          <a:latin typeface="Tahoma"/>
                        </a:rPr>
                        <a:t>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a5c6c"/>
                          </a:solidFill>
                          <a:latin typeface="Tahoma"/>
                        </a:rPr>
                        <a:t>Οι πραγματικές προσδοκίες του καταναλωτ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Παροχή υπηρεσιώ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a5c6c"/>
                          </a:solidFill>
                          <a:latin typeface="Tahoma"/>
                        </a:rPr>
                        <a:t>(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a5c6c"/>
                          </a:solidFill>
                          <a:latin typeface="Tahoma"/>
                        </a:rPr>
                        <a:t>Προδιαγραφές ποιότητας υπηρεσιώ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As Is   . . . To B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Ποιο Αναλυτικά. . 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As Is . . . To Be</a:t>
            </a:r>
            <a:br>
              <a:rPr sz="4000"/>
            </a:br>
            <a:r>
              <a:rPr b="0" i="1" lang="el-GR" sz="4000" spc="-1" strike="noStrike">
                <a:solidFill>
                  <a:srgbClr val="ffffcc"/>
                </a:solidFill>
                <a:latin typeface="Tahoma"/>
              </a:rPr>
              <a:t>(Εντοπισμός Διαφορών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Ι) Εφαρμογή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συγκριτικών τεχνικών ανάλυση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για τον εντοπισμό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διαφορώ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μεταξύ της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ισχύουσα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κα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της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μελλοντικής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επιθυμητή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κατάστασης της επιχείρηση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As Is   . . . To Be</a:t>
            </a:r>
            <a:br>
              <a:rPr sz="4000"/>
            </a:br>
            <a:r>
              <a:rPr b="0" i="1" lang="el-GR" sz="4000" spc="-1" strike="noStrike">
                <a:solidFill>
                  <a:srgbClr val="ffffcc"/>
                </a:solidFill>
                <a:latin typeface="Tahoma"/>
              </a:rPr>
              <a:t>(Μοντελοποίηση Καταστάσεων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ΙΙ) </a:t>
            </a:r>
            <a:r>
              <a:rPr b="1" i="1" lang="el-GR" sz="2800" spc="-1" strike="noStrike">
                <a:solidFill>
                  <a:srgbClr val="ffffff"/>
                </a:solidFill>
                <a:latin typeface="Tahoma"/>
              </a:rPr>
              <a:t>Μοντελοποίηση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ρέχουσα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s Is)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και  μελλοντικής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o Be)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κατάστασ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έσω των 2 μοντέλων πρέπει να γίνονται αντιληπτές στην κάθε κατάσταση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οι παρεχόμενες υπηρεσίες της επιχείρησης για να πετύχει τους στόχους τη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οι επιχειρησιακές διαδικασίες που εφαρμόζονται για την υλοποίηση των υπηρεσιών αυτώ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As Is   . . . To Be</a:t>
            </a:r>
            <a:br>
              <a:rPr sz="4000"/>
            </a:br>
            <a:r>
              <a:rPr b="0" i="1" lang="el-GR" sz="4000" spc="-1" strike="noStrike">
                <a:solidFill>
                  <a:srgbClr val="ffffcc"/>
                </a:solidFill>
                <a:latin typeface="Tahoma"/>
              </a:rPr>
              <a:t>(Αλληλεπιδράσεις Διαδικασιών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Στο σημείο αυτό πρέπει να τονιστεί η δυσκολία αναγνώρισης των αλληλεπιδράσεων μεταξύ των διαδικασιών από τα άτομα του προσωπικού της επιχείρησης. Οι διαδικασίες συχνά είναι τμηματοποιημένες και στα μάτια των εργαζόμενων φαίνονται να εκτυλίσσονται ανεξάρτητ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09:36:54Z</dcterms:created>
  <dc:creator>aaa</dc:creator>
  <dc:description/>
  <dc:language>en-US</dc:language>
  <cp:lastModifiedBy>aaa</cp:lastModifiedBy>
  <dcterms:modified xsi:type="dcterms:W3CDTF">2012-01-09T10:13:18Z</dcterms:modified>
  <cp:revision>5</cp:revision>
  <dc:subject/>
  <dc:title>Gap Analysis</dc:title>
</cp:coreProperties>
</file>